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type.wav" ContentType="audio/x-wav"/>
  <Override PartName="/ppt/media/image12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chimes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244-9A9B-4371-B29D-BC70A382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74C-3B5C-4C6D-8494-64566783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453-41B9-4250-80CB-062ED83C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DC8-9F7D-4B61-A786-33245878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245-E009-4328-8CD6-114E4E6D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D2C-101C-4401-86B5-749A0009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C04-52C0-4CF8-86DB-3A42936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97C-0E1F-49B8-BE30-8DBF2B58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434-32B4-4A1A-B071-BA71C676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056-2C94-4CDF-8B7B-A202979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C78-D37D-4016-917D-2A4E87B4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470-8428-430D-8D52-0517D8E3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9A31-8BAA-4D47-81E5-2D77130436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359000"/>
          <a:ext cx="32036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9000"/>
                    <a:ext cx="32036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973240" y="1197000"/>
          <a:ext cx="3254400" cy="28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3240" y="1197000"/>
                    <a:ext cx="325440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156360" y="1504800"/>
          <a:ext cx="284328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1504800"/>
                    <a:ext cx="284328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50920" y="3860640"/>
            <a:ext cx="25905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条形统计图可以清楚地表示出每个项目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具体数目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051440"/>
            <a:ext cx="25909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折线统计图可以清楚地反映事物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变化的情况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3860640"/>
            <a:ext cx="25909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扇形统计图可以清楚地表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各部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总体中所占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百分比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2200" y="260280"/>
            <a:ext cx="223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温故知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98100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70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该题归纳画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频数分布直方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般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5840" y="4868640"/>
            <a:ext cx="792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(5)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绘制频数分布直方图</a:t>
            </a:r>
            <a:r>
              <a:rPr b="1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横轴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各组数据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纵轴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频数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 该组内的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频数为高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画出一个矩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208160"/>
            <a:ext cx="489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班一次数学测验成绩如下： 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280" y="73980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计算极差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95-53=4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000" y="1197000"/>
            <a:ext cx="3708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en-US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决定组距与组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极差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组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42/10=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分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5680" y="4205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9160" y="164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2565360"/>
            <a:ext cx="34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(3)</a:t>
            </a:r>
            <a:r>
              <a:rPr b="1" lang="en-US" sz="2400" spc="-1" strike="noStrike">
                <a:solidFill>
                  <a:srgbClr val="b2b2b2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分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9.5~59.5, 59.5~69.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9.5~9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920" y="4221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列频数分布表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000" y="476280"/>
            <a:ext cx="828036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次统计八年级若干名学生每分钟跳绳次数的频数分布直方图，请根据这个直方图回答下列问题：                                        ⑴ 参加测试的总人数是多少？                                        ⑵ 自左至右最后一组的频数、频率分别是多少？        ⑶ 数据分组时，组距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9640" y="3573360"/>
            <a:ext cx="5472000" cy="2965320"/>
            <a:chOff x="539640" y="3573360"/>
            <a:chExt cx="5472000" cy="29653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800640" y="4442040"/>
              <a:ext cx="4094280" cy="19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39640" y="4296960"/>
              <a:ext cx="81720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2000" y="6171840"/>
              <a:ext cx="245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62    87   112   1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5440" y="4150440"/>
              <a:ext cx="261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Book Antiqua"/>
                </a:rPr>
                <a:t>频数（人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97680" y="5888160"/>
              <a:ext cx="171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ok Antiqua"/>
                </a:rPr>
                <a:t>跳绳次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3440" y="3573360"/>
              <a:ext cx="3838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ok Antiqua"/>
                </a:rPr>
                <a:t>八年级若干名学生每分跳绳次数的频数分布直方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83000" y="5519880"/>
              <a:ext cx="40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70800" y="5086080"/>
              <a:ext cx="410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5360" y="4652640"/>
              <a:ext cx="40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5320" y="5301360"/>
              <a:ext cx="406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365800" y="3429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87-62=25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84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２＋４＋６＋３＝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29098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３人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44280"/>
            <a:ext cx="216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做一做</a:t>
            </a:r>
            <a:endParaRPr b="1" lang="en-US" sz="24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4643280" y="1413000"/>
            <a:ext cx="4443480" cy="2878920"/>
            <a:chOff x="4643280" y="1413000"/>
            <a:chExt cx="4443480" cy="28789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4919760" y="2073240"/>
              <a:ext cx="381132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8418600" y="3956040"/>
              <a:ext cx="66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3280" y="1798560"/>
              <a:ext cx="598680" cy="24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 Antiqua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 Antiqua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 Antiqu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 Antiqu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 Antiqu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84920" y="1413000"/>
              <a:ext cx="375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Book Antiqua"/>
                </a:rPr>
                <a:t>各种矿泉水的</a:t>
              </a:r>
              <a:r>
                <a:rPr b="1" lang="en-US" sz="1800" spc="-1" strike="noStrike">
                  <a:solidFill>
                    <a:srgbClr val="0000ff"/>
                  </a:solidFill>
                  <a:latin typeface="Book Antiqua"/>
                </a:rPr>
                <a:t>pH</a:t>
              </a:r>
              <a:r>
                <a:rPr b="1" lang="zh-CN" sz="1800" spc="-1" strike="noStrike">
                  <a:solidFill>
                    <a:srgbClr val="0000ff"/>
                  </a:solidFill>
                  <a:latin typeface="Book Antiqua"/>
                </a:rPr>
                <a:t>频数分布直方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2200" y="1628640"/>
              <a:ext cx="1500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Book Antiqua"/>
                </a:rPr>
                <a:t>频数（种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14640" y="393228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5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7880" y="395604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6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35360" y="395604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6.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72240" y="3956040"/>
              <a:ext cx="58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7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59240" y="3956040"/>
              <a:ext cx="52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46600" y="395604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7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06960" y="395604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8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9280" y="677880"/>
            <a:ext cx="51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请观察右图，并回答下列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36360" y="1197000"/>
            <a:ext cx="518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被检查的矿泉水总数有多少种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36360" y="2060640"/>
            <a:ext cx="532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Book Antiqua"/>
              </a:rPr>
              <a:t>⑵ </a:t>
            </a:r>
            <a:r>
              <a:rPr b="1" lang="zh-CN" sz="2400" spc="-1" strike="noStrike">
                <a:solidFill>
                  <a:srgbClr val="0000ff"/>
                </a:solidFill>
                <a:latin typeface="Book Antiqua"/>
              </a:rPr>
              <a:t>被检查的矿泉水的最低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pH</a:t>
            </a:r>
            <a:r>
              <a:rPr b="1" lang="zh-CN" sz="2400" spc="-1" strike="noStrike">
                <a:solidFill>
                  <a:srgbClr val="0000ff"/>
                </a:solidFill>
                <a:latin typeface="Book Antiqua"/>
              </a:rPr>
              <a:t>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20" y="2781360"/>
            <a:ext cx="4824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⑶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组界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9~7.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一组的频数、频率分别是多少？（每一组包括前一个边界值，不包括后一个边界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20" y="4653000"/>
            <a:ext cx="874872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我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公布的生活饮用水卫生规范，饮用水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5~8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范围内，被检测的矿泉水不符合这一标准的有多少种？占总数的百分之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43000" y="357336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3360" y="314172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92080" y="28526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51480" y="17589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99440" y="1989000"/>
            <a:ext cx="44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51000" y="280836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59000" y="278136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678640" y="3990960"/>
            <a:ext cx="380880" cy="158760"/>
            <a:chOff x="5678640" y="3990960"/>
            <a:chExt cx="380880" cy="158760"/>
          </a:xfrm>
        </p:grpSpPr>
        <p:sp>
          <p:nvSpPr>
            <p:cNvPr id="180" name=""/>
            <p:cNvSpPr/>
            <p:nvPr/>
          </p:nvSpPr>
          <p:spPr>
            <a:xfrm>
              <a:off x="5678640" y="3990960"/>
              <a:ext cx="380880" cy="156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886360" y="4085640"/>
              <a:ext cx="0" cy="6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653080" y="3500280"/>
            <a:ext cx="719280" cy="649440"/>
            <a:chOff x="5653080" y="3500280"/>
            <a:chExt cx="719280" cy="649440"/>
          </a:xfrm>
        </p:grpSpPr>
        <p:sp>
          <p:nvSpPr>
            <p:cNvPr id="183" name=""/>
            <p:cNvSpPr/>
            <p:nvPr/>
          </p:nvSpPr>
          <p:spPr>
            <a:xfrm>
              <a:off x="5653080" y="3987360"/>
              <a:ext cx="379800" cy="16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849280" y="4070160"/>
              <a:ext cx="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2720" y="3500280"/>
              <a:ext cx="359640" cy="649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94520" y="4070520"/>
              <a:ext cx="108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630840" y="2276640"/>
            <a:ext cx="389160" cy="1842480"/>
            <a:chOff x="6630840" y="2276640"/>
            <a:chExt cx="389160" cy="1842480"/>
          </a:xfrm>
        </p:grpSpPr>
        <p:sp>
          <p:nvSpPr>
            <p:cNvPr id="188" name=""/>
            <p:cNvSpPr/>
            <p:nvPr/>
          </p:nvSpPr>
          <p:spPr>
            <a:xfrm>
              <a:off x="6630840" y="2276640"/>
              <a:ext cx="389160" cy="1842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813360" y="4040640"/>
              <a:ext cx="0" cy="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472760" y="15573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10000" y="24210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3680" y="422100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频数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3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20200" y="6089760"/>
            <a:ext cx="9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种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9960" y="604188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.6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63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合作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7840" y="115920"/>
            <a:ext cx="87152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试一试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年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是全国的爱眼日，让我们行动起来，爱护我们的眼睛！某校为了做好全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名学生的眼睛保健工作，对学生的视力情况进行一次抽样调查，如图，是利用所得数据绘制的频数分布直方图。请你根据此图提供的信息，回答下列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6165720"/>
            <a:ext cx="43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788000" y="2997000"/>
            <a:ext cx="0" cy="31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88000" y="33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5734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4724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88000" y="4221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3716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5734080"/>
            <a:ext cx="6476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4724280"/>
            <a:ext cx="649440" cy="144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16720" y="3357720"/>
            <a:ext cx="719280" cy="280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6000" y="4221000"/>
            <a:ext cx="649080" cy="19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85080" y="5229360"/>
            <a:ext cx="64764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88000" y="3357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88000" y="4724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5229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5734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6237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95     4.25     4.55     4.85      5.15     5.4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52000" y="5805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视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3213000"/>
            <a:ext cx="504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2637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920" y="220500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）本次调查共抽测了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名学生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0" y="2708280"/>
            <a:ext cx="3745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视力在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上的同学约占全校学生比例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全校学生的平均视力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精确到百分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360" y="5013360"/>
            <a:ext cx="42483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）如果视力在第</a:t>
            </a: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组范围内均属视力不良，那么该校约共有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名学生视力不良，应给予治疗、矫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2060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35733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7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6560" y="40464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.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851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3080" y="11592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1790280"/>
            <a:ext cx="38098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56000" y="4365720"/>
            <a:ext cx="4249440" cy="2203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26920" y="260280"/>
            <a:ext cx="3456000" cy="22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畅所欲言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708280"/>
            <a:ext cx="8209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Book Antiqua"/>
              </a:rPr>
              <a:t>通过本节课的学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Book Antiqua"/>
              </a:rPr>
              <a:t>请谈谈你的收获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1646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33600" y="141300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计算最大值与最小值的差，确定统计量的范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42840" y="2205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决定组数与组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0320" y="298116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确定分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9160" y="377352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列频数分布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2600" y="46386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画频数分布直方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2205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6600"/>
                </a:solidFill>
                <a:uFillTx/>
                <a:latin typeface="楷体_GB2312"/>
                <a:ea typeface="楷体_GB2312"/>
              </a:rPr>
              <a:t>组距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每组两个端点之间的距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476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频数分布直方图的一般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522936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411280" y="2205000"/>
            <a:ext cx="393876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业布置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2" name=""/>
          <p:cNvSpPr/>
          <p:nvPr/>
        </p:nvSpPr>
        <p:spPr>
          <a:xfrm>
            <a:off x="2916360" y="98100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4160" y="1574640"/>
            <a:ext cx="3886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丽统计了最近一星期某冷饮店平均每天能卖出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,C,D,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个牌子的雪糕的数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绘制统计图如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667400"/>
            <a:ext cx="6192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像这样的统计图称为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频数直方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300640"/>
            <a:ext cx="835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小丽的统计结果，请你为此冷饮店设计一个进货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5280" y="404640"/>
            <a:ext cx="2285640" cy="761760"/>
            <a:chOff x="395280" y="404640"/>
            <a:chExt cx="2285640" cy="761760"/>
          </a:xfrm>
        </p:grpSpPr>
        <p:sp>
          <p:nvSpPr>
            <p:cNvPr id="56" name=""/>
            <p:cNvSpPr txBox="1"/>
            <p:nvPr/>
          </p:nvSpPr>
          <p:spPr>
            <a:xfrm>
              <a:off x="1247040" y="633600"/>
              <a:ext cx="143388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2232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新魏"/>
                </a:rPr>
                <a:t>想一想</a:t>
              </a:r>
              <a:endParaRPr b="1" lang="en-US" sz="24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395280" y="404640"/>
              <a:ext cx="64224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4067280" y="549360"/>
            <a:ext cx="4571640" cy="4146480"/>
            <a:chOff x="4067280" y="549360"/>
            <a:chExt cx="4571640" cy="4146480"/>
          </a:xfrm>
        </p:grpSpPr>
        <p:sp>
          <p:nvSpPr>
            <p:cNvPr id="59" name=""/>
            <p:cNvSpPr/>
            <p:nvPr/>
          </p:nvSpPr>
          <p:spPr>
            <a:xfrm>
              <a:off x="4730760" y="1088640"/>
              <a:ext cx="0" cy="345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2040" y="4250520"/>
              <a:ext cx="37130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42000" y="3094200"/>
              <a:ext cx="446760" cy="11566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84520" y="2476800"/>
              <a:ext cx="446760" cy="1757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26680" y="3675600"/>
              <a:ext cx="447120" cy="5590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67280" y="549360"/>
              <a:ext cx="20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平均每天平均能卖出的雪糕的数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87200" y="4173480"/>
              <a:ext cx="7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29360" y="4173480"/>
              <a:ext cx="7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71880" y="417348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67280" y="1868040"/>
              <a:ext cx="69732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14400" y="417348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29360" y="3349440"/>
              <a:ext cx="447120" cy="89316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64600" y="3788280"/>
              <a:ext cx="3021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87200" y="3325320"/>
              <a:ext cx="3021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87200" y="2862720"/>
              <a:ext cx="3021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87200" y="2400120"/>
              <a:ext cx="3021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87200" y="1937160"/>
              <a:ext cx="302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09400" y="1937160"/>
              <a:ext cx="0" cy="2313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69200" y="3862080"/>
              <a:ext cx="446760" cy="3884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6560" y="417348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89120" y="4327560"/>
              <a:ext cx="15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雪糕的品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87200" y="278532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29360" y="218268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8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71880" y="332532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14400" y="355680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34320" y="309420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084720" y="508464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1773360"/>
            <a:ext cx="770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6.5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频数直方图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700280"/>
            <a:ext cx="856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844640"/>
            <a:ext cx="860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用来表示频数分布的基本统计图叫做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频数直方图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，简称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直方图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66920" y="3043080"/>
            <a:ext cx="5043600" cy="2965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549360"/>
            <a:ext cx="15112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Book Antiqua"/>
              </a:rPr>
              <a:t>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9360" y="3646440"/>
            <a:ext cx="12819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频　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4444E-006 L 0.00226 -0.15416 E">
                                      <p:cBhvr>
                                        <p:cTn id="5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4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621720"/>
            <a:ext cx="86407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抽查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名学生每分钟脉搏跳动的次数，获得如下数据（单位：次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916280"/>
            <a:ext cx="842472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1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73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77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79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78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5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68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9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2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1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4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72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83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77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79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75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786120"/>
            <a:ext cx="62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楷体_GB2312"/>
              </a:rPr>
              <a:t>请制作上述数据的频数分布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443700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11280" y="3284640"/>
          <a:ext cx="7561080" cy="3114720"/>
        </p:xfrm>
        <a:graphic>
          <a:graphicData uri="http://schemas.openxmlformats.org/drawingml/2006/table">
            <a:tbl>
              <a:tblPr/>
              <a:tblGrid>
                <a:gridCol w="2759040"/>
                <a:gridCol w="3056040"/>
                <a:gridCol w="1746000"/>
              </a:tblGrid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仿宋_GB2312"/>
                          <a:ea typeface="仿宋_GB2312"/>
                        </a:rPr>
                        <a:t>组别（次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仿宋_GB2312"/>
                          <a:ea typeface="仿宋_GB2312"/>
                        </a:rPr>
                        <a:t>组中值（次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仿宋_GB2312"/>
                          <a:ea typeface="仿宋_GB2312"/>
                        </a:rPr>
                        <a:t>频　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67.5~7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72.5~7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77.5~8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82.5~8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87.5~9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50920" y="189000"/>
            <a:ext cx="475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Book Antiqua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：（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Book Antiqua"/>
              </a:rPr>
              <a:t>列频数分布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2100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Book Antiqua"/>
              </a:rPr>
              <a:t>名学生每分钟脉搏跳动次数的频数分布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7491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极差为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90-68=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765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取组距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分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3161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别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5-7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5-77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.5-8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.5-87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.5-9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每组的组中值分别为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4360" y="0"/>
          <a:ext cx="7056360" cy="2255760"/>
        </p:xfrm>
        <a:graphic>
          <a:graphicData uri="http://schemas.openxmlformats.org/drawingml/2006/table">
            <a:tbl>
              <a:tblPr/>
              <a:tblGrid>
                <a:gridCol w="2574720"/>
                <a:gridCol w="2851200"/>
                <a:gridCol w="163044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组别（次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组中值（次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频　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~7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.5~7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.5~8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2.5~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.5~9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08000" y="2349360"/>
            <a:ext cx="87850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ook Antiqu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Book Antiqua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Book Antiqua"/>
              </a:rPr>
              <a:t>分别以横轴上每组别两边界点为端点的线段为底边，作高为相应频数的矩形，就得到所求的频数分布直方图，如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838240" y="3429000"/>
            <a:ext cx="6054480" cy="3449520"/>
            <a:chOff x="2838240" y="3429000"/>
            <a:chExt cx="6054480" cy="3449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3384360" y="3716280"/>
              <a:ext cx="5184360" cy="26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68720" y="6093000"/>
              <a:ext cx="574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1440" y="573408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1440" y="5300640"/>
              <a:ext cx="35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68720" y="4941720"/>
              <a:ext cx="43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68720" y="4581360"/>
              <a:ext cx="50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97080" y="4221000"/>
              <a:ext cx="574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68720" y="3860640"/>
              <a:ext cx="50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1080" y="3429000"/>
              <a:ext cx="5471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20</a:t>
              </a:r>
              <a:r>
                <a:rPr b="1" lang="zh-CN" sz="2000" spc="-1" strike="noStrike">
                  <a:solidFill>
                    <a:srgbClr val="ff0000"/>
                  </a:solidFill>
                  <a:latin typeface="Book Antiqua"/>
                </a:rPr>
                <a:t>名学生每分脉搏跳动次数的频数分布直方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38240" y="3860640"/>
              <a:ext cx="459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Book Antiqua"/>
                </a:rPr>
                <a:t>频数（人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21080" y="6237360"/>
              <a:ext cx="3168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65</a:t>
              </a:r>
              <a:r>
                <a:rPr b="0" lang="zh-CN" sz="1800" spc="-1" strike="noStrike">
                  <a:solidFill>
                    <a:srgbClr val="000000"/>
                  </a:solidFill>
                  <a:latin typeface="Book Antiqua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70</a:t>
              </a:r>
              <a:r>
                <a:rPr b="0" lang="zh-CN" sz="1800" spc="-1" strike="noStrike">
                  <a:solidFill>
                    <a:srgbClr val="000000"/>
                  </a:solidFill>
                  <a:latin typeface="Book Antiqua"/>
                </a:rPr>
                <a:t>　</a:t>
              </a:r>
              <a:r>
                <a:rPr b="0" lang="zh-CN" sz="1200" spc="-1" strike="noStrike">
                  <a:solidFill>
                    <a:srgbClr val="000000"/>
                  </a:solidFill>
                  <a:latin typeface="Book Antiqua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75</a:t>
              </a:r>
              <a:r>
                <a:rPr b="0" lang="zh-CN" sz="10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80</a:t>
              </a:r>
              <a:r>
                <a:rPr b="0" lang="zh-CN" sz="1800" spc="-1" strike="noStrike">
                  <a:solidFill>
                    <a:srgbClr val="000000"/>
                  </a:solidFill>
                  <a:latin typeface="Book Antiqua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85</a:t>
              </a:r>
              <a:r>
                <a:rPr b="0" lang="zh-CN" sz="14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90</a:t>
              </a:r>
              <a:r>
                <a:rPr b="0" lang="zh-CN" sz="1800" spc="-1" strike="noStrike">
                  <a:solidFill>
                    <a:srgbClr val="000000"/>
                  </a:solidFill>
                  <a:latin typeface="Book Antiqua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45440" y="6237360"/>
              <a:ext cx="154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Book Antiqua"/>
                </a:rPr>
                <a:t>脉搏（次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767040"/>
            <a:ext cx="2627280" cy="885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5011560"/>
            <a:ext cx="2880000" cy="1513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ok Antiqua"/>
              </a:rPr>
              <a:t>为了使图形清晰美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ok Antiqua"/>
              </a:rPr>
              <a:t>频数分布直方图的横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ok Antiqua"/>
              </a:rPr>
              <a:t>上可</a:t>
            </a:r>
            <a:r>
              <a:rPr b="1" lang="zh-CN" sz="2000" spc="-1" strike="noStrike">
                <a:solidFill>
                  <a:srgbClr val="ff0000"/>
                </a:solidFill>
                <a:latin typeface="Book Antiqua"/>
              </a:rPr>
              <a:t>只标出组中值，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Book Antiqua"/>
              </a:rPr>
              <a:t>标出组界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8900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班一次数学测验成绩如下：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6681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某班一次数学测验成绩的频数分布直方图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480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9280" y="1197000"/>
          <a:ext cx="439272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439272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887640" y="98100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某班一次数学测验成绩的频数分布表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频数分布直方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88000" y="1700280"/>
          <a:ext cx="3740040" cy="2813040"/>
        </p:xfrm>
        <a:graphic>
          <a:graphicData uri="http://schemas.openxmlformats.org/drawingml/2006/table">
            <a:tbl>
              <a:tblPr/>
              <a:tblGrid>
                <a:gridCol w="2282760"/>
                <a:gridCol w="145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数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5~5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5~6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5~7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5~8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.5~9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284720" y="530064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2:39:28Z</dcterms:created>
  <dc:creator/>
  <dc:description/>
  <dc:language>en-US</dc:language>
  <cp:lastModifiedBy>dell</cp:lastModifiedBy>
  <dcterms:modified xsi:type="dcterms:W3CDTF">2013-07-04T06:05:00Z</dcterms:modified>
  <cp:revision>16</cp:revision>
  <dc:subject/>
  <dc:title>幻灯片 1</dc:title>
</cp:coreProperties>
</file>